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3528-E304-44BA-8522-34C05DFE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2DF-5F11-477A-961C-9B75113D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1EC5-19BE-402D-8068-80111AFF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DCC2-9B89-4254-A219-82C390F9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17A3-D459-4E2E-86C0-82E803C1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8763-BD17-4B6A-B9EE-FB80CA20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E0D-9D2D-442B-A9BE-ECE93EAF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079-F1B7-4599-9C66-A739F99D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517D-CFED-4105-8CB7-8502D660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6A2-064A-4B13-AA67-D43D1432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A9CF-43D3-4783-B177-74C2BD8B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FF2-8C87-4F1F-88B9-FF33EB23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96E2-824B-4230-A0CB-DDF978689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~PP2745.WAV" TargetMode="External"/><Relationship Id="rId3" Type="http://schemas.microsoft.com/office/2007/relationships/media" Target="file:///tmp/home/.config/libreoffice/4/user/gallery/~PP2745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audio" Target="file:///tmp/home/.config/libreoffice/4/user/gallery/~PP2069.WAV" TargetMode="External"/><Relationship Id="rId4" Type="http://schemas.microsoft.com/office/2007/relationships/media" Target="file:///tmp/home/.config/libreoffice/4/user/gallery/~PP2069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audio" Target="file:///tmp/home/.config/libreoffice/4/user/gallery/~PP3540.WAV" TargetMode="External"/><Relationship Id="rId4" Type="http://schemas.microsoft.com/office/2007/relationships/media" Target="file:///tmp/home/.config/libreoffice/4/user/gallery/~PP3540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~PP990.WAV" TargetMode="External"/><Relationship Id="rId3" Type="http://schemas.microsoft.com/office/2007/relationships/media" Target="file:///tmp/home/.config/libreoffice/4/user/gallery/~PP990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file:///tmp/home/.config/libreoffice/4/user/gallery/~PP253.WAV" TargetMode="External"/><Relationship Id="rId4" Type="http://schemas.microsoft.com/office/2007/relationships/media" Target="file:///tmp/home/.config/libreoffice/4/user/gallery/~PP253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audio" Target="file:///tmp/home/.config/libreoffice/4/user/gallery/~PP318.WAV" TargetMode="External"/><Relationship Id="rId4" Type="http://schemas.microsoft.com/office/2007/relationships/media" Target="file:///tmp/home/.config/libreoffice/4/user/gallery/~PP31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audio" Target="file:///tmp/home/.config/libreoffice/4/user/gallery/~PP383.WAV" TargetMode="External"/><Relationship Id="rId4" Type="http://schemas.microsoft.com/office/2007/relationships/media" Target="file:///tmp/home/.config/libreoffice/4/user/gallery/~PP383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audio" Target="file:///tmp/home/.config/libreoffice/4/user/gallery/~PP3903.WAV" TargetMode="External"/><Relationship Id="rId4" Type="http://schemas.microsoft.com/office/2007/relationships/media" Target="file:///tmp/home/.config/libreoffice/4/user/gallery/~PP3903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audio" Target="file:///tmp/home/.config/libreoffice/4/user/gallery/~PP898.WAV" TargetMode="External"/><Relationship Id="rId4" Type="http://schemas.microsoft.com/office/2007/relationships/media" Target="file:///tmp/home/.config/libreoffice/4/user/gallery/~PP89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file:///tmp/home/.config/libreoffice/4/user/gallery/~PP1052.WAV" TargetMode="External"/><Relationship Id="rId3" Type="http://schemas.microsoft.com/office/2007/relationships/media" Target="file:///tmp/home/.config/libreoffice/4/user/gallery/~PP1052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file:///tmp/home/.config/libreoffice/4/user/gallery/~PP3235.WAV" TargetMode="External"/><Relationship Id="rId4" Type="http://schemas.microsoft.com/office/2007/relationships/media" Target="file:///tmp/home/.config/libreoffice/4/user/gallery/~PP3235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943600" y="64911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d from LearnAlb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022640" cy="4876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19320" y="23623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number is in the tenths pl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3429000"/>
            <a:ext cx="1371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09480" y="244440"/>
            <a:ext cx="8153640" cy="1685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48320" y="3352680"/>
            <a:ext cx="1752480" cy="8384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4000"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1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022640" cy="4876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219320" y="23623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number is in the thousandths pl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3429000"/>
            <a:ext cx="1371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7696440" cy="1479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648320" y="5791320"/>
            <a:ext cx="1752480" cy="8380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5000"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7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4719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228600" y="5202360"/>
            <a:ext cx="198108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6.7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5211720"/>
            <a:ext cx="198144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0.0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5257800"/>
            <a:ext cx="198108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1.0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-360" y="655308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655308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5257800"/>
            <a:ext cx="762120" cy="99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5257800"/>
            <a:ext cx="762120" cy="99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53080" y="5334120"/>
            <a:ext cx="762120" cy="990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5257800"/>
            <a:ext cx="1067040" cy="990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5257800"/>
            <a:ext cx="1066680" cy="990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5334120"/>
            <a:ext cx="1067040" cy="99036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4000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5200" cy="45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5400000">
            <a:off x="266400" y="2171520"/>
            <a:ext cx="762120" cy="3808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189720" y="3543120"/>
            <a:ext cx="762120" cy="3812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89720" y="4991040"/>
            <a:ext cx="762120" cy="3812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990360" y="2057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4991040" cy="895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762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762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1000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5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74080" cy="4913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rot="5400000">
            <a:off x="266400" y="2171520"/>
            <a:ext cx="762120" cy="3808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189720" y="3543120"/>
            <a:ext cx="762120" cy="3812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189720" y="4991040"/>
            <a:ext cx="762120" cy="3812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4991040" cy="895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1600" y="762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762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4000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3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48680" cy="4586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rot="5400000">
            <a:off x="266400" y="2171520"/>
            <a:ext cx="762120" cy="3808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189720" y="3543120"/>
            <a:ext cx="762120" cy="3812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189720" y="4991040"/>
            <a:ext cx="762120" cy="3812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4991040" cy="895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90920" y="762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762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762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4000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2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40680" cy="4226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rot="5400000">
            <a:off x="266400" y="2171520"/>
            <a:ext cx="762120" cy="3808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89720" y="3543120"/>
            <a:ext cx="762120" cy="3812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189720" y="4991040"/>
            <a:ext cx="762120" cy="3812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4991040" cy="895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91120" y="762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762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762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762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3000"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2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277400" cy="4181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4991040" cy="895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191120" y="762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762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762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762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1752480"/>
            <a:ext cx="380880" cy="33530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752480"/>
            <a:ext cx="381240" cy="33530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1752480"/>
            <a:ext cx="380880" cy="10670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2819520"/>
            <a:ext cx="380880" cy="3808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3000"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3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305560" cy="535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" y="533520"/>
            <a:ext cx="685800" cy="10666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0"/>
            <a:ext cx="3200400" cy="3962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380880"/>
            <a:ext cx="1752480" cy="13716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0"/>
            <a:ext cx="3200400" cy="3962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2000"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9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686800" cy="1600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4022640" cy="4876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19320" y="23623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number is in the hundredths pl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3429000"/>
            <a:ext cx="1371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952880"/>
            <a:ext cx="1752480" cy="8384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3000"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5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01:36:48Z</dcterms:created>
  <dc:creator>andrea.fabbro</dc:creator>
  <dc:description/>
  <dc:language>en-US</dc:language>
  <cp:lastModifiedBy>andrea.fabbro</cp:lastModifiedBy>
  <dcterms:modified xsi:type="dcterms:W3CDTF">2008-05-05T14:50:26Z</dcterms:modified>
  <cp:revision>4</cp:revision>
  <dc:subject/>
  <dc:title>Slide 1</dc:title>
</cp:coreProperties>
</file>